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691813" cy="75565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5680" y="473256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8824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0892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7216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568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0892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7216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8840" y="626760"/>
            <a:ext cx="88963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8824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56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6200" y="561960"/>
            <a:ext cx="9795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9440"/>
            <a:ext cx="10693440" cy="144720"/>
          </a:xfrm>
          <a:prstGeom prst="roundRect">
            <a:avLst>
              <a:gd name="adj" fmla="val 1111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302600"/>
            <a:ext cx="10693440" cy="144360"/>
          </a:xfrm>
          <a:prstGeom prst="roundRect">
            <a:avLst>
              <a:gd name="adj" fmla="val 1111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4480" y="6932520"/>
            <a:ext cx="12780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A3A1-CAE0-4444-84D9-5F7BBFBB09B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3" marL="136692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4" marL="1655640" indent="-43164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5" marL="1655640" indent="-431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6" marL="1655640" indent="-431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8840" y="593640"/>
            <a:ext cx="889776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Applying  Off-the-Shelf Technologies in eVLBI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ri Mujunen, Ari.Mujunen@hut.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tsähovi Radio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elsinki University of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6560" y="1468440"/>
            <a:ext cx="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MVR Recorder with VSIB Board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43480" y="3959280"/>
            <a:ext cx="5019840" cy="3236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24040" y="1619280"/>
            <a:ext cx="5076720" cy="224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83920" y="2089080"/>
            <a:ext cx="25426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0.5Gbit/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1200  eur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7560" y="4397400"/>
            <a:ext cx="442116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-H compa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Chainabl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ore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ore on-line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Near-Future Off-the-Shelf Trend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52200" cy="19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Large Serial ATA (SATA) disks replace PATA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$1/GB, drops quickly (600GB for $300 in 2004?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1Gbps Ethernet everywhere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9160" y="3862080"/>
            <a:ext cx="44211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Backups migrate from tape -&gt; disk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82640" indent="-42732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SATA native hot/warm swap connector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498240" indent="-42768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HyperTranspo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PCI Express, ...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04000" y="3749760"/>
            <a:ext cx="4676760" cy="345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118800" y="3814920"/>
            <a:ext cx="13723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Intel 875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61120" y="3487680"/>
            <a:ext cx="5126040" cy="361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Motherboard Trend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040" y="2033640"/>
            <a:ext cx="9144000" cy="17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Multiple high-speed channels to memory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tel E7501 2x Xeon, 3x HI2.0, 1x HI1.5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tel E7505 (1x HI 2.0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64760" y="3917880"/>
            <a:ext cx="4148280" cy="29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AMD Opteron with 3x 6.4GB/s HyperTransport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82640" indent="-42732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nVidia nForce 3 Pro chipset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82640" indent="-42732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AMD-8000 chipset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8840" y="593640"/>
            <a:ext cx="889776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A Strategy for an Uninterrupted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1Gbps eVLBI System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6" name=""/>
          <p:cNvSpPr/>
          <p:nvPr/>
        </p:nvSpPr>
        <p:spPr>
          <a:xfrm>
            <a:off x="5199120" y="2508120"/>
            <a:ext cx="1359000" cy="74484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9400" y="3594240"/>
            <a:ext cx="1359000" cy="7444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99120" y="4667400"/>
            <a:ext cx="1359000" cy="7444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9400" y="5754600"/>
            <a:ext cx="1359000" cy="74448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45400" y="2959200"/>
            <a:ext cx="639720" cy="3070080"/>
          </a:xfrm>
          <a:custGeom>
            <a:avLst/>
            <a:gdLst>
              <a:gd name="textAreaLeft" fmla="*/ 360 w 639720"/>
              <a:gd name="textAreaRight" fmla="*/ 639360 w 639720"/>
              <a:gd name="textAreaTop" fmla="*/ 360 h 3070080"/>
              <a:gd name="textAreaBottom" fmla="*/ 3069720 h 3070080"/>
            </a:gdLst>
            <a:ahLst/>
            <a:rect l="textAreaLeft" t="textAreaTop" r="textAreaRight" b="textAreaBottom"/>
            <a:pathLst>
              <a:path w="21600" h="103614">
                <a:moveTo>
                  <a:pt x="53" y="0"/>
                </a:moveTo>
                <a:arcTo wR="53" hR="53" stAng="16200000" swAng="-5400000"/>
                <a:lnTo>
                  <a:pt x="0" y="103561"/>
                </a:lnTo>
                <a:arcTo wR="53" hR="53" stAng="10800000" swAng="-5400000"/>
                <a:lnTo>
                  <a:pt x="21547" y="103614"/>
                </a:lnTo>
                <a:arcTo wR="53" hR="53" stAng="5400000" swAng="-5400000"/>
                <a:lnTo>
                  <a:pt x="21600" y="53"/>
                </a:lnTo>
                <a:arcTo wR="53" hR="5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1520" y="2940120"/>
            <a:ext cx="993960" cy="3070080"/>
          </a:xfrm>
          <a:custGeom>
            <a:avLst/>
            <a:gdLst>
              <a:gd name="textAreaLeft" fmla="*/ 360 w 993960"/>
              <a:gd name="textAreaRight" fmla="*/ 993600 w 993960"/>
              <a:gd name="textAreaTop" fmla="*/ 360 h 3070080"/>
              <a:gd name="textAreaBottom" fmla="*/ 3069720 h 3070080"/>
            </a:gdLst>
            <a:ahLst/>
            <a:rect l="textAreaLeft" t="textAreaTop" r="textAreaRight" b="textAreaBottom"/>
            <a:pathLst>
              <a:path w="21600" h="66700">
                <a:moveTo>
                  <a:pt x="34" y="0"/>
                </a:moveTo>
                <a:arcTo wR="34" hR="34" stAng="16200000" swAng="-5400000"/>
                <a:lnTo>
                  <a:pt x="0" y="66666"/>
                </a:lnTo>
                <a:arcTo wR="34" hR="34" stAng="10800000" swAng="-5400000"/>
                <a:lnTo>
                  <a:pt x="21566" y="66700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70120" y="3000240"/>
            <a:ext cx="692280" cy="1216080"/>
          </a:xfrm>
          <a:custGeom>
            <a:avLst/>
            <a:gdLst>
              <a:gd name="textAreaLeft" fmla="*/ 360 w 692280"/>
              <a:gd name="textAreaRight" fmla="*/ 691920 w 692280"/>
              <a:gd name="textAreaTop" fmla="*/ 360 h 1216080"/>
              <a:gd name="textAreaBottom" fmla="*/ 1215720 h 1216080"/>
            </a:gdLst>
            <a:ahLst/>
            <a:rect l="textAreaLeft" t="textAreaTop" r="textAreaRight" b="textAreaBottom"/>
            <a:pathLst>
              <a:path w="21600" h="37935">
                <a:moveTo>
                  <a:pt x="49" y="0"/>
                </a:moveTo>
                <a:arcTo wR="49" hR="49" stAng="16200000" swAng="-5400000"/>
                <a:lnTo>
                  <a:pt x="0" y="37886"/>
                </a:lnTo>
                <a:arcTo wR="49" hR="49" stAng="10800000" swAng="-5400000"/>
                <a:lnTo>
                  <a:pt x="21551" y="37935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67240" y="4713120"/>
            <a:ext cx="691920" cy="1216080"/>
          </a:xfrm>
          <a:custGeom>
            <a:avLst/>
            <a:gdLst>
              <a:gd name="textAreaLeft" fmla="*/ 360 w 691920"/>
              <a:gd name="textAreaRight" fmla="*/ 691560 w 691920"/>
              <a:gd name="textAreaTop" fmla="*/ 360 h 1216080"/>
              <a:gd name="textAreaBottom" fmla="*/ 1215720 h 1216080"/>
            </a:gdLst>
            <a:ahLst/>
            <a:rect l="textAreaLeft" t="textAreaTop" r="textAreaRight" b="textAreaBottom"/>
            <a:pathLst>
              <a:path w="21600" h="37954">
                <a:moveTo>
                  <a:pt x="49" y="0"/>
                </a:moveTo>
                <a:arcTo wR="49" hR="49" stAng="16200000" swAng="-5400000"/>
                <a:lnTo>
                  <a:pt x="0" y="37905"/>
                </a:lnTo>
                <a:arcTo wR="49" hR="49" stAng="10800000" swAng="-5400000"/>
                <a:lnTo>
                  <a:pt x="21551" y="37954"/>
                </a:lnTo>
                <a:arcTo wR="49" hR="49" stAng="5400000" swAng="-5400000"/>
                <a:lnTo>
                  <a:pt x="21600" y="49"/>
                </a:lnTo>
                <a:arcTo wR="49" hR="49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0560" y="3710160"/>
            <a:ext cx="824040" cy="1411200"/>
          </a:xfrm>
          <a:custGeom>
            <a:avLst/>
            <a:gdLst>
              <a:gd name="textAreaLeft" fmla="*/ 360 w 824040"/>
              <a:gd name="textAreaRight" fmla="*/ 823680 w 824040"/>
              <a:gd name="textAreaTop" fmla="*/ 360 h 1411200"/>
              <a:gd name="textAreaBottom" fmla="*/ 1410840 h 1411200"/>
            </a:gdLst>
            <a:ahLst/>
            <a:rect l="textAreaLeft" t="textAreaTop" r="textAreaRight" b="textAreaBottom"/>
            <a:pathLst>
              <a:path w="21600" h="36984">
                <a:moveTo>
                  <a:pt x="41" y="0"/>
                </a:moveTo>
                <a:arcTo wR="41" hR="41" stAng="16200000" swAng="-5400000"/>
                <a:lnTo>
                  <a:pt x="0" y="36943"/>
                </a:lnTo>
                <a:arcTo wR="41" hR="41" stAng="10800000" swAng="-5400000"/>
                <a:lnTo>
                  <a:pt x="21559" y="36984"/>
                </a:lnTo>
                <a:arcTo wR="41" hR="41" stAng="5400000" swAng="-5400000"/>
                <a:lnTo>
                  <a:pt x="21600" y="41"/>
                </a:lnTo>
                <a:arcTo wR="41" hR="41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5920" y="2560680"/>
            <a:ext cx="7642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10640" y="2128680"/>
            <a:ext cx="34570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4x MVR  (or MVR cha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4840" y="3370320"/>
            <a:ext cx="118800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k4 F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1680" y="2552760"/>
            <a:ext cx="18799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1Gbps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2800" y="406224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82800" y="4846680"/>
            <a:ext cx="549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9880" y="2858760"/>
            <a:ext cx="84924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9880" y="3852720"/>
            <a:ext cx="109692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36920" y="5081760"/>
            <a:ext cx="849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36920" y="5616720"/>
            <a:ext cx="112392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8120" y="2808360"/>
            <a:ext cx="117468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32440" y="39844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70720" y="4478040"/>
            <a:ext cx="116208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832440" y="5092560"/>
            <a:ext cx="901800" cy="107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99520" y="5316480"/>
            <a:ext cx="1084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99520" y="5643720"/>
            <a:ext cx="1096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77240" y="6492960"/>
            <a:ext cx="8816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Set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360" y="6492960"/>
            <a:ext cx="8816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Set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5800" y="3147840"/>
            <a:ext cx="416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69840" y="4859280"/>
            <a:ext cx="416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9120" y="2755800"/>
            <a:ext cx="4075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3800" y="3852720"/>
            <a:ext cx="4075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01720" y="4964040"/>
            <a:ext cx="4075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3800" y="6060960"/>
            <a:ext cx="4075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VS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2040" y="6818400"/>
            <a:ext cx="15904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CoolSwa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An Example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040" y="2033280"/>
            <a:ext cx="52768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3.5h of </a:t>
            </a:r>
            <a:r>
              <a:rPr b="1" lang="en-US" sz="3200" spc="-1" strike="noStrike">
                <a:solidFill>
                  <a:srgbClr val="000000"/>
                </a:solidFill>
                <a:latin typeface="Arial;Helvetic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Gbps onto 16 200GB disk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Or continuously 1Gbps onto 8 disks, swapping the other 8 every 3.5h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Only 9477 euro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(plus disks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cl. 19in rack &amp; 4x Gbps Ethernet /w 8-port switch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05680" y="515880"/>
            <a:ext cx="3362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18280" y="130500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18280" y="274464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118280" y="418464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118280" y="5624640"/>
            <a:ext cx="3343320" cy="147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281640" y="849240"/>
            <a:ext cx="7642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2880" y="1332000"/>
            <a:ext cx="10843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4x M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8840" y="593640"/>
            <a:ext cx="889776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Metsähovi VSI Data System Evolution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87480" y="2039760"/>
          <a:ext cx="9488520" cy="504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9760"/>
                    <a:ext cx="9488520" cy="50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Outline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Overview of available off-the-shelf technologie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Evaluation test result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Current technology limitation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Impact of technology limitations 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ystem design and system scalability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Near-future off-the-shelf trend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A strategy for an uninterrup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1Gbps eVLBI system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593640"/>
            <a:ext cx="889776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Overview of Available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Off-the-Shelf Technologie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COTS: means mainstream technolog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used by millions of people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Tremendous R&amp;D investments by industry in general-purpose COTS disk, computer, tape, and networking technologie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Thus industry does R&amp;D for 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aster than we can do on our own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Only if we can directly use standard technologies without locking to them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COTS Disks and Computer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45680" y="2033280"/>
            <a:ext cx="9061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Both are evolving at exponential “Moore rate” with no signs of slowdown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90720" y="3122640"/>
          <a:ext cx="6456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3122640"/>
                    <a:ext cx="6456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542080" y="3605040"/>
            <a:ext cx="17625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Sizes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tripled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the st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disk 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projec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COTS Tapes and Networking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Faster high-capacity tapes “in the works”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Sony S-AIT-1(,2,3,4), Quantum SDLT, HP/IBM/Seagate LTO2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500GB, 320GB, 200GB / 240Mbps, 128Mbps, 240Mbps... 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Expensive drive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$10k) and tapes; still slow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not at all a mainstream technology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Networking migrates 100M-&gt;1G-&gt;10Gbp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ATM and others losing to Ethernet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1Gbps Ethernet becoming mainstream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05680" y="1839960"/>
            <a:ext cx="4219560" cy="505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Evaluation Test Result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46040" y="2033640"/>
            <a:ext cx="49104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Dell PE1600SC with ServerWorks GC-SL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On paper, multi-Gbp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 practice, 400-500Mbps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70% CPU load!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Two Promise IDE PCI ctrls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Single rd 600, wr 700Mbps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rd+wr: rd 400 + wr 550Mbps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VSIB rd+wr: the sam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Sum of I/O always &lt;1Gbps..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04160" y="6399000"/>
            <a:ext cx="235080" cy="277560"/>
          </a:xfrm>
          <a:prstGeom prst="line">
            <a:avLst/>
          </a:prstGeom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56000" y="6283440"/>
            <a:ext cx="1987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31560" y="4637160"/>
            <a:ext cx="646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1.6G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57040" y="4689360"/>
            <a:ext cx="646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3.2G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7280" y="3435480"/>
            <a:ext cx="646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3.2G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Evaluation Test Result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MSI K7N2G-ILSR with nVidia nForce2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On paper only PCI32/33, &lt;1Gbp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 practice 0.7Gbps from and 0.4Gbps to PCI board &lt;-&gt; on-board IDE with on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45% CPU load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Parallel ATA disks not suitable for &gt;45cm cabling; limited COTS solutions to disk swaps 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Longer cables force reducing speed from UDMA133/100 to UDMA66 or even UDMA33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UDMA33 allows only 120Mbps/disk (half of native perf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;Helvetica"/>
              </a:rPr>
              <a:t>-&gt; 9 disks needed for 1Gbps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Current Technology Limitations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Low-cost computers have just gained the capability to reach 0.5Gbps in all directions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PCI(net/VSIB)&lt;-&gt;memory&lt;-&gt;disk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The leap to &gt;1Gbps will probably happen only after 1Gbps networking has replaced 100Mbps everywhere (2005?)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840" y="593640"/>
            <a:ext cx="889776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Impact of Limitations on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;Helvetica"/>
              </a:rPr>
              <a:t>System Design</a:t>
            </a:r>
            <a:endParaRPr b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All subsystems achieve 0.5Gb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but 1Gbps is difficult/flaky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Input/Output (PCI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Memory, CPU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Disk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1Gbps Ethernet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;Helvetica"/>
              </a:rPr>
              <a:t>So let's make a scalable 0.5Gbps box!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Affordable enough, can buy as many as needed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;Helvetica"/>
              </a:rPr>
              <a:t>Standard enough, can replace when needed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i Mujunen</cp:lastModifiedBy>
  <dcterms:modified xsi:type="dcterms:W3CDTF">2003-05-21T07:43:42Z</dcterms:modified>
  <cp:revision>3</cp:revision>
  <dc:subject/>
  <dc:title>Applying  Off-the-Shelf Technologies in eVLBI</dc:title>
</cp:coreProperties>
</file>