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2825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7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25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7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325-8982-421E-AB32-810526E9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60D-720A-4935-9A3A-6C1EAF7D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F06-ED7A-4711-9448-3A8B1A4B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478-4531-4577-BFD3-3A40254C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671-926B-4E8E-A92D-45773CE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920" y="3045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445-328C-43DB-BE94-12258F6C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93D-E519-49CF-967A-29BB714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74E-350E-4A61-87CB-A2EB11D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5F3-92D8-4FE8-948D-42556D8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567-C533-4D67-BAE3-A1195DF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EBD-8791-485C-BC05-0BB037A7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5348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47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25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5348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47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E3F-ACD5-4F69-B2BA-EF0F3D30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2920" y="3045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134880" y="839880"/>
            <a:ext cx="62697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3960" y="63244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3300"/>
                </a:solidFill>
                <a:latin typeface="Arial"/>
              </a:rPr>
              <a:t>Metsähovi Radio Observato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47680" y="5943600"/>
            <a:ext cx="779400" cy="6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906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134880" y="843120"/>
            <a:ext cx="62697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3297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0689-96C1-4475-9036-6082440AE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7920" y="6019920"/>
            <a:ext cx="777960" cy="672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907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vasaaritutkimus Metsähovissa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itius, Altius, Fortiu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1676520"/>
            <a:ext cx="3154320" cy="4279680"/>
            <a:chOff x="838080" y="1676520"/>
            <a:chExt cx="3154320" cy="4279680"/>
          </a:xfrm>
        </p:grpSpPr>
        <p:pic>
          <p:nvPicPr>
            <p:cNvPr id="86" name="kurpitsa_antenni_peilikuva" descr=""/>
            <p:cNvPicPr/>
            <p:nvPr/>
          </p:nvPicPr>
          <p:blipFill>
            <a:blip r:embed="rId1"/>
            <a:stretch/>
          </p:blipFill>
          <p:spPr>
            <a:xfrm>
              <a:off x="838080" y="1676520"/>
              <a:ext cx="315432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95200" y="5740560"/>
              <a:ext cx="111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cc"/>
                  </a:solidFill>
                  <a:latin typeface="Arial"/>
                </a:rPr>
                <a:t>Credit: M. Tornikoski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74120" y="2892600"/>
            <a:ext cx="53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9999"/>
                </a:solidFill>
                <a:latin typeface="Arial"/>
              </a:rPr>
              <a:t>Merja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Tornikoski, dosentti &amp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i Mujunen, tutkij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KK / Metsähovin radiotutkimusasem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Kvasaarit ja muut</a:t>
            </a:r>
            <a:br>
              <a:rPr sz="3200"/>
            </a:b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aktiiviset galaksinytime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0" name="agn_up_model" descr=""/>
          <p:cNvPicPr/>
          <p:nvPr/>
        </p:nvPicPr>
        <p:blipFill>
          <a:blip r:embed="rId1"/>
          <a:srcRect l="0" t="0" r="0" b="13500"/>
          <a:stretch/>
        </p:blipFill>
        <p:spPr>
          <a:xfrm>
            <a:off x="5638680" y="2666880"/>
            <a:ext cx="4086360" cy="390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712960" cy="2401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7238880" y="1904760"/>
            <a:ext cx="763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229600" y="1676160"/>
            <a:ext cx="763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Arial"/>
              </a:rPr>
              <a:t>qs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213372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7280" y="6643800"/>
            <a:ext cx="165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C.M. Urry &amp; P. Padovani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32080" y="25560"/>
            <a:ext cx="202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C. Steidel (Caltech), HST, NASA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ngc1068" descr=""/>
          <p:cNvPicPr/>
          <p:nvPr/>
        </p:nvPicPr>
        <p:blipFill>
          <a:blip r:embed="rId3"/>
          <a:stretch/>
        </p:blipFill>
        <p:spPr>
          <a:xfrm>
            <a:off x="0" y="1371600"/>
            <a:ext cx="5192640" cy="403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23120" y="5410080"/>
            <a:ext cx="123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William C. Keel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975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Perinteisesti kvasaaritutkija on tehnyt päätelmänsä havaitsemalla ”pistelähdettä”!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4191120"/>
            <a:ext cx="9522000" cy="1674720"/>
            <a:chOff x="228600" y="4191120"/>
            <a:chExt cx="9522000" cy="1674720"/>
          </a:xfrm>
        </p:grpSpPr>
        <p:pic>
          <p:nvPicPr>
            <p:cNvPr id="102" name="lasilla" descr=""/>
            <p:cNvPicPr/>
            <p:nvPr/>
          </p:nvPicPr>
          <p:blipFill>
            <a:blip r:embed="rId1"/>
            <a:srcRect l="25884" t="33572" r="0" b="0"/>
            <a:stretch/>
          </p:blipFill>
          <p:spPr>
            <a:xfrm>
              <a:off x="3200400" y="4191120"/>
              <a:ext cx="275112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cgro_deploy4" descr=""/>
            <p:cNvPicPr/>
            <p:nvPr/>
          </p:nvPicPr>
          <p:blipFill>
            <a:blip r:embed="rId2"/>
            <a:stretch/>
          </p:blipFill>
          <p:spPr>
            <a:xfrm>
              <a:off x="7355160" y="4191120"/>
              <a:ext cx="2395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rxte_artist" descr=""/>
            <p:cNvPicPr/>
            <p:nvPr/>
          </p:nvPicPr>
          <p:blipFill>
            <a:blip r:embed="rId3"/>
            <a:srcRect l="10475" t="17518" r="20950" b="19459"/>
            <a:stretch/>
          </p:blipFill>
          <p:spPr>
            <a:xfrm>
              <a:off x="5867640" y="4191120"/>
              <a:ext cx="158112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SEST2" descr=""/>
            <p:cNvPicPr/>
            <p:nvPr/>
          </p:nvPicPr>
          <p:blipFill>
            <a:blip r:embed="rId4"/>
            <a:stretch/>
          </p:blipFill>
          <p:spPr>
            <a:xfrm>
              <a:off x="1295640" y="4191120"/>
              <a:ext cx="220320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228600" y="4191120"/>
              <a:ext cx="111456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ks0528+134" descr=""/>
          <p:cNvPicPr/>
          <p:nvPr/>
        </p:nvPicPr>
        <p:blipFill>
          <a:blip r:embed="rId6"/>
          <a:stretch/>
        </p:blipFill>
        <p:spPr>
          <a:xfrm>
            <a:off x="4114800" y="1447920"/>
            <a:ext cx="2522520" cy="250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rcRect l="8270" t="8114" r="7375" b="8299"/>
          <a:stretch/>
        </p:blipFill>
        <p:spPr>
          <a:xfrm>
            <a:off x="228600" y="1371600"/>
            <a:ext cx="3886200" cy="2554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08040" y="1371600"/>
            <a:ext cx="136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R.Mukherjee et al.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0" name="3c279_spectra" descr=""/>
          <p:cNvPicPr/>
          <p:nvPr/>
        </p:nvPicPr>
        <p:blipFill>
          <a:blip r:embed="rId8"/>
          <a:stretch/>
        </p:blipFill>
        <p:spPr>
          <a:xfrm>
            <a:off x="6781680" y="1523880"/>
            <a:ext cx="2614680" cy="20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1320" y="1371600"/>
            <a:ext cx="176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D.L.Bertsch (NASA/GSFC)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0066"/>
                </a:solidFill>
                <a:latin typeface="Arial"/>
              </a:rPr>
              <a:t>Erotuskyk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191120" y="228600"/>
            <a:ext cx="4966920" cy="6318000"/>
            <a:chOff x="4191120" y="228600"/>
            <a:chExt cx="4966920" cy="6318000"/>
          </a:xfrm>
        </p:grpSpPr>
        <p:pic>
          <p:nvPicPr>
            <p:cNvPr id="114" name="resoluutio-fin" descr=""/>
            <p:cNvPicPr/>
            <p:nvPr/>
          </p:nvPicPr>
          <p:blipFill>
            <a:blip r:embed="rId1"/>
            <a:srcRect l="8203" t="0" r="0" b="2425"/>
            <a:stretch/>
          </p:blipFill>
          <p:spPr>
            <a:xfrm>
              <a:off x="4191120" y="228600"/>
              <a:ext cx="4966920" cy="61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806800" y="6178320"/>
              <a:ext cx="23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</a:rPr>
                <a:t>Millimetri-VLBI, 2m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1760" y="6261840"/>
              <a:ext cx="167760" cy="167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753920" y="1523880"/>
            <a:ext cx="8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/D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219320"/>
            <a:ext cx="1295640" cy="1218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4120" y="266688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Aallonpituus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(= 1/taajuus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41880" y="266688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eleskoopi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halkaisij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6240" y="3733920"/>
            <a:ext cx="33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is: erotuskyky parane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un aallonpituus pienenee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= taajuus kasva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i teleskoopin koko kasvaa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38080" y="1980720"/>
            <a:ext cx="914400" cy="685800"/>
          </a:xfrm>
          <a:prstGeom prst="line">
            <a:avLst/>
          </a:prstGeom>
          <a:ln w="284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361960" y="1980720"/>
            <a:ext cx="533160" cy="685800"/>
          </a:xfrm>
          <a:prstGeom prst="line">
            <a:avLst/>
          </a:prstGeom>
          <a:ln w="284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0066"/>
                </a:solidFill>
                <a:latin typeface="Arial"/>
              </a:rPr>
              <a:t>... ja mihin sitä tarvita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5" name="aat058" descr=""/>
          <p:cNvPicPr/>
          <p:nvPr/>
        </p:nvPicPr>
        <p:blipFill>
          <a:blip r:embed="rId1"/>
          <a:srcRect l="20068" t="24000" r="8236" b="12428"/>
          <a:stretch/>
        </p:blipFill>
        <p:spPr>
          <a:xfrm>
            <a:off x="304920" y="1523880"/>
            <a:ext cx="1407960" cy="15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4440" y="160020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Galaksi Virgon joukossa (15 Mpc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6720" y="213372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... ja Coman joukossa (90 Mpc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8" name="3c433_x_opt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352520" cy="150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63120" y="3608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ktiivinen galaksi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3840" y="490392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radioshokki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34560" y="4599000"/>
            <a:ext cx="32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molekyylikiekko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6480" y="15508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0.1</a:t>
            </a:r>
            <a:r>
              <a:rPr b="1" lang="en-US" sz="2000" spc="-1" strike="noStrike" baseline="30000">
                <a:solidFill>
                  <a:srgbClr val="9933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1800" y="216072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&gt; 1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78840" y="35323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1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5" name="agn_up_model" descr=""/>
          <p:cNvPicPr/>
          <p:nvPr/>
        </p:nvPicPr>
        <p:blipFill>
          <a:blip r:embed="rId3"/>
          <a:stretch/>
        </p:blipFill>
        <p:spPr>
          <a:xfrm>
            <a:off x="7315200" y="4038480"/>
            <a:ext cx="1836720" cy="2027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472428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&lt;20</a:t>
            </a:r>
            <a:r>
              <a:rPr b="1" lang="en-US" sz="20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72840" y="536112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kertymäkiekko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93040" y="535932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2:39:51Z</dcterms:created>
  <dc:creator>mtt</dc:creator>
  <dc:description/>
  <dc:language>en-US</dc:language>
  <cp:lastModifiedBy>mtt</cp:lastModifiedBy>
  <cp:lastPrinted>2003-03-12T22:20:08Z</cp:lastPrinted>
  <dcterms:modified xsi:type="dcterms:W3CDTF">2003-03-13T00:46:03Z</dcterms:modified>
  <cp:revision>116</cp:revision>
  <dc:subject/>
  <dc:title>Asiajuttu</dc:title>
</cp:coreProperties>
</file>