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2825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2560" y="352116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164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48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76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256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48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76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943-09F0-496F-9EB0-A612A285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F59-858C-454A-BCF5-503C960A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647-6341-4B09-B6DE-2D6D8896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9A1-0BF7-4865-8D5A-4A41A9AE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C97-30CB-4DC5-88BB-C68732D8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920" y="3045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F00-10F5-456E-980B-66336ECB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E73-522E-48EF-8937-41FCBFA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164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6D3-B3BA-44DA-88DD-756C5370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927-8458-4BE4-8524-463E71F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2560" y="352116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05A-4534-4C3C-845D-6EB99FA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164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1FF-C064-4A18-9937-DB11B5D8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5348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94760" y="137160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256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5348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94760" y="3521160"/>
            <a:ext cx="2895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4F3-A2D5-4F6E-AE43-5B825702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2920" y="3045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1640" y="352116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256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1640" y="1371600"/>
            <a:ext cx="438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2560" y="3521160"/>
            <a:ext cx="8994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134880" y="839880"/>
            <a:ext cx="626976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3960" y="63244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3300"/>
                </a:solidFill>
                <a:latin typeface="Arial"/>
              </a:rPr>
              <a:t>Metsähovi Radio Observato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47680" y="5943600"/>
            <a:ext cx="779400" cy="6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12560" y="1371600"/>
            <a:ext cx="899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08200"/>
            <a:ext cx="9906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134880" y="843120"/>
            <a:ext cx="626976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3297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30E0-4199-4991-BF58-2017FD666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7920" y="6019920"/>
            <a:ext cx="777960" cy="672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9907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vasaaritutkimus Metsähovissa: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Citius, Altius, Fortius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8080" y="1676520"/>
            <a:ext cx="3154320" cy="4279680"/>
            <a:chOff x="838080" y="1676520"/>
            <a:chExt cx="3154320" cy="4279680"/>
          </a:xfrm>
        </p:grpSpPr>
        <p:pic>
          <p:nvPicPr>
            <p:cNvPr id="86" name="kurpitsa_antenni_peilikuva" descr=""/>
            <p:cNvPicPr/>
            <p:nvPr/>
          </p:nvPicPr>
          <p:blipFill>
            <a:blip r:embed="rId1"/>
            <a:stretch/>
          </p:blipFill>
          <p:spPr>
            <a:xfrm>
              <a:off x="838080" y="1676520"/>
              <a:ext cx="3154320" cy="41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095200" y="5740560"/>
              <a:ext cx="111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cc"/>
                  </a:solidFill>
                  <a:latin typeface="Arial"/>
                </a:rPr>
                <a:t>Credit: M. Tornikoski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074120" y="2892600"/>
            <a:ext cx="53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9999"/>
                </a:solidFill>
                <a:latin typeface="Arial"/>
              </a:rPr>
              <a:t>Merja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Tornikoski, dosentti &amp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ri Mujunen, tutkij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KK / Metsähovin radiotutkimusasem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660066"/>
                </a:solidFill>
                <a:latin typeface="Arial"/>
              </a:rPr>
              <a:t>Kvasaarit ja muut</a:t>
            </a:r>
            <a:br>
              <a:rPr sz="3200"/>
            </a:br>
            <a:r>
              <a:rPr b="1" lang="fi-FI" sz="3200" spc="-1" strike="noStrike">
                <a:solidFill>
                  <a:srgbClr val="660066"/>
                </a:solidFill>
                <a:latin typeface="Arial"/>
              </a:rPr>
              <a:t>aktiiviset galaksinytime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0" name="agn_up_model" descr=""/>
          <p:cNvPicPr/>
          <p:nvPr/>
        </p:nvPicPr>
        <p:blipFill>
          <a:blip r:embed="rId1"/>
          <a:srcRect l="0" t="0" r="0" b="13500"/>
          <a:stretch/>
        </p:blipFill>
        <p:spPr>
          <a:xfrm>
            <a:off x="5638680" y="2666880"/>
            <a:ext cx="4086360" cy="390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712960" cy="2401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7238880" y="1904760"/>
            <a:ext cx="763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8229600" y="1676160"/>
            <a:ext cx="763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cc"/>
                </a:solidFill>
                <a:latin typeface="Arial"/>
              </a:rPr>
              <a:t>qs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7320" y="213372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cc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7280" y="6643800"/>
            <a:ext cx="165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C.M. Urry &amp; P. Padovani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32080" y="25560"/>
            <a:ext cx="202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C. Steidel (Caltech), HST, NASA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8" name="ngc1068" descr=""/>
          <p:cNvPicPr/>
          <p:nvPr/>
        </p:nvPicPr>
        <p:blipFill>
          <a:blip r:embed="rId3"/>
          <a:stretch/>
        </p:blipFill>
        <p:spPr>
          <a:xfrm>
            <a:off x="0" y="1371600"/>
            <a:ext cx="5192640" cy="4030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23120" y="5410080"/>
            <a:ext cx="123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William C. Keel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975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660066"/>
                </a:solidFill>
                <a:latin typeface="Arial"/>
              </a:rPr>
              <a:t>Perinteisesti kvasaaritutkija on tehnyt päätelmänsä havaitsemalla ”pistelähdettä”!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4191120"/>
            <a:ext cx="9522000" cy="1674720"/>
            <a:chOff x="228600" y="4191120"/>
            <a:chExt cx="9522000" cy="1674720"/>
          </a:xfrm>
        </p:grpSpPr>
        <p:pic>
          <p:nvPicPr>
            <p:cNvPr id="102" name="lasilla" descr=""/>
            <p:cNvPicPr/>
            <p:nvPr/>
          </p:nvPicPr>
          <p:blipFill>
            <a:blip r:embed="rId1"/>
            <a:srcRect l="25884" t="33572" r="0" b="0"/>
            <a:stretch/>
          </p:blipFill>
          <p:spPr>
            <a:xfrm>
              <a:off x="3200400" y="4191120"/>
              <a:ext cx="2751120" cy="16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cgro_deploy4" descr=""/>
            <p:cNvPicPr/>
            <p:nvPr/>
          </p:nvPicPr>
          <p:blipFill>
            <a:blip r:embed="rId2"/>
            <a:stretch/>
          </p:blipFill>
          <p:spPr>
            <a:xfrm>
              <a:off x="7355160" y="4191120"/>
              <a:ext cx="239544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rxte_artist" descr=""/>
            <p:cNvPicPr/>
            <p:nvPr/>
          </p:nvPicPr>
          <p:blipFill>
            <a:blip r:embed="rId3"/>
            <a:srcRect l="10475" t="17518" r="20950" b="19459"/>
            <a:stretch/>
          </p:blipFill>
          <p:spPr>
            <a:xfrm>
              <a:off x="5867640" y="4191120"/>
              <a:ext cx="1581120" cy="16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SEST2" descr=""/>
            <p:cNvPicPr/>
            <p:nvPr/>
          </p:nvPicPr>
          <p:blipFill>
            <a:blip r:embed="rId4"/>
            <a:stretch/>
          </p:blipFill>
          <p:spPr>
            <a:xfrm>
              <a:off x="1295640" y="4191120"/>
              <a:ext cx="2203200" cy="16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228600" y="4191120"/>
              <a:ext cx="1114560" cy="16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ks0528+134" descr=""/>
          <p:cNvPicPr/>
          <p:nvPr/>
        </p:nvPicPr>
        <p:blipFill>
          <a:blip r:embed="rId6"/>
          <a:stretch/>
        </p:blipFill>
        <p:spPr>
          <a:xfrm>
            <a:off x="4114800" y="1447920"/>
            <a:ext cx="2522520" cy="2503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rcRect l="8270" t="8114" r="7375" b="8299"/>
          <a:stretch/>
        </p:blipFill>
        <p:spPr>
          <a:xfrm>
            <a:off x="228600" y="1371600"/>
            <a:ext cx="3886200" cy="2554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108040" y="1371600"/>
            <a:ext cx="136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R.Mukherjee et al.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0" name="3c279_spectra" descr=""/>
          <p:cNvPicPr/>
          <p:nvPr/>
        </p:nvPicPr>
        <p:blipFill>
          <a:blip r:embed="rId8"/>
          <a:stretch/>
        </p:blipFill>
        <p:spPr>
          <a:xfrm>
            <a:off x="6781680" y="1523880"/>
            <a:ext cx="2614680" cy="20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71320" y="1371600"/>
            <a:ext cx="176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cc"/>
                </a:solidFill>
                <a:latin typeface="Arial"/>
              </a:rPr>
              <a:t>Credit:: D.L.Bertsch (NASA/GSFC)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0066"/>
                </a:solidFill>
                <a:latin typeface="Arial"/>
              </a:rPr>
              <a:t>Erotuskyk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191120" y="228600"/>
            <a:ext cx="4966920" cy="6318000"/>
            <a:chOff x="4191120" y="228600"/>
            <a:chExt cx="4966920" cy="6318000"/>
          </a:xfrm>
        </p:grpSpPr>
        <p:pic>
          <p:nvPicPr>
            <p:cNvPr id="114" name="resoluutio-fin" descr=""/>
            <p:cNvPicPr/>
            <p:nvPr/>
          </p:nvPicPr>
          <p:blipFill>
            <a:blip r:embed="rId1"/>
            <a:srcRect l="8203" t="0" r="0" b="2425"/>
            <a:stretch/>
          </p:blipFill>
          <p:spPr>
            <a:xfrm>
              <a:off x="4191120" y="228600"/>
              <a:ext cx="4966920" cy="61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806800" y="6178320"/>
              <a:ext cx="23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</a:rPr>
                <a:t>Millimetri-VLBI, 2mm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31760" y="6261840"/>
              <a:ext cx="167760" cy="167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753920" y="1523880"/>
            <a:ext cx="8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/D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219320"/>
            <a:ext cx="1295640" cy="1218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4120" y="2666880"/>
            <a:ext cx="14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Aallonpituus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(= 1/taajuus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41880" y="266688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Teleskoopin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halkaisij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6240" y="3733920"/>
            <a:ext cx="33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is: erotuskyky parane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un aallonpituus pienenee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= taajuus kasvaa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ai teleskoopin koko kasvaa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38080" y="1980720"/>
            <a:ext cx="914400" cy="685800"/>
          </a:xfrm>
          <a:prstGeom prst="line">
            <a:avLst/>
          </a:prstGeom>
          <a:ln w="284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361960" y="1980720"/>
            <a:ext cx="533160" cy="685800"/>
          </a:xfrm>
          <a:prstGeom prst="line">
            <a:avLst/>
          </a:prstGeom>
          <a:ln w="284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660066"/>
                </a:solidFill>
                <a:latin typeface="Arial"/>
              </a:rPr>
              <a:t>... ja mihin sitä tarvitaa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5" name="aat058" descr=""/>
          <p:cNvPicPr/>
          <p:nvPr/>
        </p:nvPicPr>
        <p:blipFill>
          <a:blip r:embed="rId1"/>
          <a:srcRect l="20068" t="24000" r="8236" b="12428"/>
          <a:stretch/>
        </p:blipFill>
        <p:spPr>
          <a:xfrm>
            <a:off x="304920" y="1523880"/>
            <a:ext cx="1407960" cy="15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4440" y="160020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Galaksi Virgon joukossa (15 Mpc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36720" y="2133720"/>
            <a:ext cx="37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... ja Coman joukossa (90 Mpc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8" name="3c433_x_opt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1352520" cy="1509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63120" y="3608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ktiivinen galaksi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3840" y="4903920"/>
            <a:ext cx="27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Kvasaarin radioshokki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34560" y="4599000"/>
            <a:ext cx="32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Kvasaarin molekyylikiekko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6480" y="155088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0.1</a:t>
            </a:r>
            <a:r>
              <a:rPr b="1" lang="en-US" sz="2000" spc="-1" strike="noStrike" baseline="30000">
                <a:solidFill>
                  <a:srgbClr val="9933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11800" y="216072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&gt; 1’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78840" y="35323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1”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5" name="agn_up_model" descr=""/>
          <p:cNvPicPr/>
          <p:nvPr/>
        </p:nvPicPr>
        <p:blipFill>
          <a:blip r:embed="rId3"/>
          <a:stretch/>
        </p:blipFill>
        <p:spPr>
          <a:xfrm>
            <a:off x="7315200" y="4038480"/>
            <a:ext cx="1836720" cy="2027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43600" y="472428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&lt;20</a:t>
            </a:r>
            <a:r>
              <a:rPr b="1" lang="en-US" sz="2000" spc="-1" strike="noStrike">
                <a:solidFill>
                  <a:srgbClr val="993366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72840" y="536112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Kvasaarin kertymäkiekko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93040" y="535932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0.05 </a:t>
            </a:r>
            <a:r>
              <a:rPr b="1" lang="en-US" sz="2000" spc="-1" strike="noStrike">
                <a:solidFill>
                  <a:srgbClr val="993366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993366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05040" y="252360"/>
            <a:ext cx="88977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6000" indent="-216000">
              <a:lnSpc>
                <a:spcPct val="7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VLBI ''pitkäkantainterferometria''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219320"/>
            <a:ext cx="37339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Very Long Baseline Interferometr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Yhdistetään monta radioteleskooppia virtuaaliseksi jättiteleskoopiks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ittaustiedot vertailtava, ''korreloitava''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5127480" cy="4797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05320" y="6019920"/>
            <a:ext cx="75060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9999"/>
                </a:solidFill>
                <a:latin typeface="Arial;Helvetica"/>
                <a:ea typeface="HG Mincho Light J"/>
              </a:rPr>
              <a:t>Credit: NASA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87480" y="241200"/>
            <a:ext cx="8897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8920" indent="-358920">
              <a:lnSpc>
                <a:spcPct val="7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Metsähovin VLBI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447920"/>
            <a:ext cx="611208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etsähovi on osallistunut VLBI-nauhamittauksiin 1992-&gt;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Kulmaerottelukyvyn maailmanennätys vv. 2001-2002, 50 mikrokaarisekunti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90560" indent="-431640">
              <a:lnSpc>
                <a:spcPct val="100000"/>
              </a:lnSpc>
              <a:spcBef>
                <a:spcPts val="649"/>
              </a:spcBef>
              <a:buClr>
                <a:srgbClr val="008080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150 GHz, 2 mm aallonpituu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Vanheneva nauhatekniikka pilasi osan mittauksista =&gt;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90560" indent="-431640">
              <a:lnSpc>
                <a:spcPct val="100000"/>
              </a:lnSpc>
              <a:spcBef>
                <a:spcPts val="649"/>
              </a:spcBef>
              <a:buClr>
                <a:srgbClr val="008080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Korvaavan levytekniikan kehittely aloitettiin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26290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04760" y="0"/>
            <a:ext cx="88981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6000" indent="-216000">
              <a:lnSpc>
                <a:spcPct val="7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Lisää suorituskykyä minikoossa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53960" y="1109520"/>
            <a:ext cx="2613240" cy="5139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951520" y="4859280"/>
            <a:ext cx="2625840" cy="1162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95680" y="1066680"/>
            <a:ext cx="5007240" cy="3229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718080" y="4010040"/>
            <a:ext cx="2116080" cy="1201680"/>
          </a:xfrm>
          <a:prstGeom prst="line">
            <a:avLst/>
          </a:prstGeom>
          <a:ln w="72000">
            <a:solidFill>
              <a:srgbClr val="00b8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09800" y="3840120"/>
            <a:ext cx="145764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;Helvetica"/>
                <a:ea typeface="HG Mincho Light J"/>
              </a:rPr>
              <a:t>VSIB-kortt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5960" y="282600"/>
            <a:ext cx="88977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6000" indent="-216000">
              <a:lnSpc>
                <a:spcPct val="7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Metsähovin kovalevytallenni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689120"/>
            <a:ext cx="90612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VLBI-tallennin, joka perustuu yleisiin PC-tietokoneisiin ja tavallisiin kovalevyihi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etsähovin suunnittelema ''VSIB''-sovitinkortt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503280" indent="-432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iedot talteen erikoisten magneettinauhojen sijaan tavallisiksi tiedostoiks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90560" indent="-431640">
              <a:lnSpc>
                <a:spcPct val="100000"/>
              </a:lnSpc>
              <a:spcBef>
                <a:spcPts val="649"/>
              </a:spcBef>
              <a:buClr>
                <a:srgbClr val="008080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Päästään mukaan käyttämään hyväksi yleistä tietokone-  ja tietoliikennetekniikan kehitystä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90560" indent="-431640">
              <a:lnSpc>
                <a:spcPct val="100000"/>
              </a:lnSpc>
              <a:spcBef>
                <a:spcPts val="649"/>
              </a:spcBef>
              <a:buClr>
                <a:srgbClr val="008080"/>
              </a:buClr>
              <a:buSzPct val="50000"/>
              <a:buFont typeface="Monotype Sort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99"/>
                </a:solidFill>
                <a:latin typeface="Arial"/>
              </a:rPr>
              <a:t>Valmis Internetiä käyttävään ''e-VLBI''- ja ''grid''-tyyppiseen hilalaskentaan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2:39:51Z</dcterms:created>
  <dc:creator>mtt</dc:creator>
  <dc:description/>
  <dc:language>en-US</dc:language>
  <cp:lastModifiedBy>Ari Mujunen</cp:lastModifiedBy>
  <cp:lastPrinted>2003-03-14T11:03:54Z</cp:lastPrinted>
  <dcterms:modified xsi:type="dcterms:W3CDTF">2003-03-14T11:04:01Z</dcterms:modified>
  <cp:revision>123</cp:revision>
  <dc:subject/>
  <dc:title>Asiajuttu</dc:title>
</cp:coreProperties>
</file>