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691813" cy="75565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28840" y="626760"/>
            <a:ext cx="8896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906012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5680" y="4732560"/>
            <a:ext cx="906012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8840" y="626760"/>
            <a:ext cx="8896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442116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988240" y="2033640"/>
            <a:ext cx="442116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5680" y="4732560"/>
            <a:ext cx="442116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988240" y="4732560"/>
            <a:ext cx="442116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28840" y="626760"/>
            <a:ext cx="8896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291708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08920" y="2033640"/>
            <a:ext cx="291708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72160" y="2033640"/>
            <a:ext cx="291708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5680" y="4732560"/>
            <a:ext cx="291708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408920" y="4732560"/>
            <a:ext cx="291708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72160" y="4732560"/>
            <a:ext cx="291708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8840" y="626760"/>
            <a:ext cx="8896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5680" y="2033640"/>
            <a:ext cx="9060120" cy="51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8840" y="626760"/>
            <a:ext cx="8896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9060120" cy="51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8840" y="626760"/>
            <a:ext cx="8896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4421160" cy="51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88240" y="2033640"/>
            <a:ext cx="4421160" cy="51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8840" y="626760"/>
            <a:ext cx="8896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28840" y="626760"/>
            <a:ext cx="88963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8840" y="626760"/>
            <a:ext cx="8896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442116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88240" y="2033640"/>
            <a:ext cx="4421160" cy="51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5680" y="4732560"/>
            <a:ext cx="442116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28840" y="626760"/>
            <a:ext cx="8896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4421160" cy="51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88240" y="2033640"/>
            <a:ext cx="442116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988240" y="4732560"/>
            <a:ext cx="442116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28840" y="626760"/>
            <a:ext cx="8896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442116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8240" y="2033640"/>
            <a:ext cx="442116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5680" y="4732560"/>
            <a:ext cx="9060120" cy="24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93440" cy="7556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06200" y="561960"/>
            <a:ext cx="97956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80"/>
                </a:solidFill>
                <a:latin typeface="Arial"/>
                <a:ea typeface="HG Mincho Light J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9440"/>
            <a:ext cx="10693440" cy="144720"/>
          </a:xfrm>
          <a:prstGeom prst="roundRect">
            <a:avLst>
              <a:gd name="adj" fmla="val 1111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7302600"/>
            <a:ext cx="10693440" cy="144360"/>
          </a:xfrm>
          <a:prstGeom prst="roundRect">
            <a:avLst>
              <a:gd name="adj" fmla="val 1111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42000" y="6932520"/>
            <a:ext cx="13906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9EBF-6F76-4A10-B032-896E91EAD2B6}" type="slidenum">
              <a:rPr b="0" lang="en-US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8840" y="626760"/>
            <a:ext cx="8896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45680" y="2033640"/>
            <a:ext cx="9060120" cy="51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692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55640" indent="-43164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55640" indent="-431640">
              <a:lnSpc>
                <a:spcPct val="97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55640" indent="-431640">
              <a:lnSpc>
                <a:spcPct val="97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8840" y="627120"/>
            <a:ext cx="8897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Next Generation at Metsähovi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90615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'MVR'' VLBI recorder design based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dity ''office'' PCs and hard d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and inexpensive data I/O board ''VSIB'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with both formatter and sampler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432000">
              <a:lnSpc>
                <a:spcPct val="97000"/>
              </a:lnSpc>
              <a:spcAft>
                <a:spcPts val="850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I-H compatible, low-level data Mark5A compa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in normal files in 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of hard disk (etc)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VLBI ready with readily available networ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8840" y="627120"/>
            <a:ext cx="8897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MVR Recorder with VSIB Board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43480" y="3959280"/>
            <a:ext cx="5019840" cy="323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4040" y="1619280"/>
            <a:ext cx="5076720" cy="2247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83920" y="2089080"/>
            <a:ext cx="25426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0.5Gbit/s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1200  euro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8840" y="627120"/>
            <a:ext cx="8897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Highlight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45680" y="2033640"/>
            <a:ext cx="90615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le now and in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PCs in parallel and/or ch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432000">
              <a:lnSpc>
                <a:spcPct val="97000"/>
              </a:lnSpc>
              <a:spcAft>
                <a:spcPts val="850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Gbit/s, 2Gbit/s... / more disks on-line / uninterrupted r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 technology scales ''automatically'' on its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432000">
              <a:lnSpc>
                <a:spcPct val="97000"/>
              </a:lnSpc>
              <a:spcAft>
                <a:spcPts val="850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witch to using Serial ATA disks etc.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s special VLBI equipment into standard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432000">
              <a:lnSpc>
                <a:spcPct val="97000"/>
              </a:lnSpc>
              <a:spcAft>
                <a:spcPts val="850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what has happened to typewriters, dedicated word processors, oscilloscopes, phototypesetters, film photography and image processing 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8840" y="627120"/>
            <a:ext cx="8897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An Exampl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46040" y="2033640"/>
            <a:ext cx="442152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5h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it/s onto 16 200GB d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ontinuously 1Gbit/s onto 8 disks, swapping the other 8 every 3.5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7000"/>
              </a:lnSpc>
              <a:spcAft>
                <a:spcPts val="1412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9477 e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lus dis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spcAft>
                <a:spcPts val="1125"/>
              </a:spcAft>
              <a:buClr>
                <a:srgbClr val="000080"/>
              </a:buClr>
              <a:buSzPct val="75000"/>
              <a:buFont typeface="Wingdings" charset="2"/>
              <a:buChar char="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. Rack &amp; 4x GB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105680" y="515880"/>
            <a:ext cx="3362400" cy="739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18280" y="1305000"/>
            <a:ext cx="3343320" cy="1479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118280" y="2744640"/>
            <a:ext cx="3343320" cy="1479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118280" y="4184640"/>
            <a:ext cx="3343320" cy="1479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7118280" y="5624640"/>
            <a:ext cx="3343320" cy="1479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21080" y="838080"/>
            <a:ext cx="76428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M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2880" y="1332000"/>
            <a:ext cx="108432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;Helvetica"/>
                <a:ea typeface="HG Mincho Light J"/>
              </a:rPr>
              <a:t>4x M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i Mujunen</cp:lastModifiedBy>
  <dcterms:modified xsi:type="dcterms:W3CDTF">2003-03-14T10:26:26Z</dcterms:modified>
  <cp:revision>3</cp:revision>
  <dc:subject/>
  <dc:title>Next Generation at Metsähovi</dc:title>
</cp:coreProperties>
</file>